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30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28.png" ContentType="image/png"/>
  <Override PartName="/ppt/media/image7.jpeg" ContentType="image/jpeg"/>
  <Override PartName="/ppt/media/image6.png" ContentType="image/png"/>
  <Override PartName="/ppt/media/image9.png" ContentType="image/png"/>
  <Override PartName="/ppt/media/image10.png" ContentType="image/png"/>
  <Override PartName="/ppt/media/image13.png" ContentType="image/png"/>
  <Override PartName="/ppt/media/image20.jpeg" ContentType="image/jpeg"/>
  <Override PartName="/ppt/media/image12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26.wmf" ContentType="image/x-wmf"/>
  <Override PartName="/ppt/media/image25.wmf" ContentType="image/x-wmf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9.png" ContentType="image/png"/>
  <Override PartName="/ppt/media/image21.jpeg" ContentType="image/jpeg"/>
  <Override PartName="/ppt/media/image22.png" ContentType="image/png"/>
  <Override PartName="/ppt/media/image2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98280" y="771120"/>
            <a:ext cx="5102280" cy="38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199120" cy="4593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2"/>
          </p:nvPr>
        </p:nvSpPr>
        <p:spPr>
          <a:xfrm>
            <a:off x="4022640" y="9723240"/>
            <a:ext cx="3068640" cy="502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BC7960-1CA6-4F56-B732-6AC7E467A5D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AABB1-BAEE-4CB0-872A-C3EFDAEBB5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68A1B4-7F74-4C8A-A0EB-7F789F3B98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750509-9D54-478C-9A4C-6C82EA7B771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D89CA-3630-47C9-9D73-0ABEA5414A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A699A-3B97-40AE-BCE3-D7A58E36A7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9FA2ED-783D-498A-BD0D-EB7A5A541A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86840E-ABE4-4B5A-ACED-F6990EDE75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AE9E46-E2F0-423A-892F-C47ADAF1CD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F6F6E0-F277-492B-AF05-E05FA32C02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D23C39-6214-4F97-BAB6-6ABB7FDD26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A9BFA-2D6B-4E08-887C-D9D2B0CC7E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380B41-708E-4F70-AEDF-E9BF7FA288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89DC32-A751-43A5-AD36-4E6628EA38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D9E6AB-4200-4ABA-AC44-311B47A540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5E2EE-4DD9-4E5F-92F8-278ECBCE2E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AC4C1B-99CD-49D1-A49B-CFDA8CCAE4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4D0BA7-A32E-4905-83CB-AA01EF3ED5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6B1AEB-FB84-4268-9029-9FF9DFEF75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6AF946-9155-4AD7-882A-99351981EF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DC62B7-137C-4ED9-AD9B-E5ADDAC015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94EFD9-3531-4C79-BA24-3FEBA04DCA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BC5935-39BE-443C-992D-6ECBDFC3EDD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2C5DC1-839E-4B7F-AF3F-A6B48F3055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808B9A-C029-4BA8-9146-7919752E8A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5B6B15-FB02-4B34-B8E8-EA7DFB93FC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14E5C-D4EC-4A87-85FC-93C96B5233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515B4-BA71-4327-A3FE-B19B05CB610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9D799B-D72A-4429-A53F-E2CAD2F6C2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8CEBE-308E-4D79-8B15-832D398EEEA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3A01E2-4FCE-4A64-97A4-5A5A9AC223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1B775-BFB0-466C-90B4-E6CDA67E99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D48A83-F1A3-4484-9F64-476B6EE0FE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5154A6-AFE7-46F5-9049-89E744E266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BD95E-4158-414D-AB7A-9506046997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FD93A-EA2B-4EC7-818A-67E7E80FD5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04920" y="38552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5C329-A0D5-47EF-A827-1CFACE8CF8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CA5DA-E7AB-46B9-9D90-5944F39E74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780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104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0492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780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104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9665E-770A-4B37-A531-2755F3F809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5956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29EB5-D3BF-4978-80D9-1B473B3703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88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04920" y="38552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88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8780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7104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0492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8780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7104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BFDCE-7AB9-4B33-9CE4-A4CDEE1D7F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4C617-95B4-4572-88A6-5C9F10CE0D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E0E90-D0C9-43EE-99C9-0A44568808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5956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D60AF-93A7-4849-8F20-63BE58F307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669E5-D25D-4DCB-8E8C-FE1BF4D9D8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3500B-A5A7-4883-8193-1299F4D654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4E0CC-9713-415F-9CE5-AFFFA27149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186760" y="6496200"/>
            <a:ext cx="906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E95D0C-B587-4AC6-83A5-EE60F0DCAA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7b1c15"/>
          </a:solidFill>
          <a:ln w="9360">
            <a:solidFill>
              <a:srgbClr val="63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7b1c15"/>
          </a:solidFill>
          <a:ln w="9360">
            <a:solidFill>
              <a:srgbClr val="63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www.ida.liu.se/labs/pelab/modelica/OpenModelica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56196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7b1c15"/>
                </a:solidFill>
                <a:latin typeface="Trebuchet MS"/>
              </a:rPr>
              <a:t>OpenModelica Eclipse Plugin and </a:t>
            </a:r>
            <a:br>
              <a:rPr sz="4800"/>
            </a:br>
            <a:r>
              <a:rPr b="0" lang="en-GB" sz="4800" spc="-1" strike="noStrike">
                <a:solidFill>
                  <a:srgbClr val="7b1c15"/>
                </a:solidFill>
                <a:latin typeface="Trebuchet MS"/>
              </a:rPr>
              <a:t>MetaModelica Exercis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42920" y="3213000"/>
            <a:ext cx="7129440" cy="20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drian P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rebuchet MS"/>
              </a:rPr>
              <a:t>adrian.pop@liu.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PELAB/IDA/LIU,  2007-03-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Updated 2010-11-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by Peter Fritzson and Martin Sjöl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4179C3-9722-496D-AA80-4D4F73145ECF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ose all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DEF98-063A-4029-85E6-69B24C55F733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witch to Modelica Persp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5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80893-2306-4D2B-83FA-B94E9A145B0C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how the OpenModelica Console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52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2475E5-9236-44D2-A4A2-33F50DCC46D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-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0_simples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perform a simple simulation in the MDT Eclipse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Type or copy a simple model into an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Open the Eclipse view “OpenModelica consol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imulate with the simulate com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plot with the plot comm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Note: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following exercises you will no longer use the “OpenModelica conso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9E2308-4640-4E9F-AB88-29978C779143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01 - 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76032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(02b_exp2 opt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 (opt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0881B0-C64C-48E9-AC64-85E6474C5CAE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pen the first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720720"/>
            <a:ext cx="6534000" cy="36003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32E02-39B8-49EC-A4D3-ED25A0E561E5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uild the first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1971720" y="2700360"/>
            <a:ext cx="914400" cy="107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780000" y="1254240"/>
            <a:ext cx="1979280" cy="1812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16040" y="2049480"/>
            <a:ext cx="709956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ways use Rebuild Project or the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uild Project only works if you modify a sourc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having pressed the button once, Alt+B can b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3361D1-14ED-45A7-840A-5B8268773E94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Building a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351640" cy="62643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 flipH="1">
            <a:off x="4564080" y="2133720"/>
            <a:ext cx="736560" cy="237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09080" y="1440000"/>
            <a:ext cx="420840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4928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cleans the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4928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runs th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2835360" y="4861080"/>
            <a:ext cx="1744560" cy="131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619280" y="4861080"/>
            <a:ext cx="431640" cy="736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680" y="5580000"/>
            <a:ext cx="382608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ntax problem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pd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save in the problems vi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86040" y="5950080"/>
            <a:ext cx="358992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uild and run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displayed in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4F9CC3-26AD-4414-A4DC-58C6599ACAC6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42920" y="0"/>
            <a:ext cx="810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MC Debug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529480" cy="56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0_simplesim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(02b_exp2 optional)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 (optional)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790717-518C-4276-A5D4-49A87107CB9E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ebugging using OM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Not yet 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Debug data structures using printAny(dat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You can also switch to RML for an algorithmic debug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130A3E-03D9-45DE-AB6F-CEBC5B08F535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penModelica MDT – Eclipse Plu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Browsing of packages, classes,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utomatic building of executables; </a:t>
            </a:r>
            <a:br>
              <a:rPr sz="2400"/>
            </a:b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separate comp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Syntax highlig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Code completion, </a:t>
            </a:r>
            <a:br>
              <a:rPr sz="2400"/>
            </a:b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Code query support for develo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utomatic Ind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Debugger </a:t>
            </a:r>
            <a:br>
              <a:rPr sz="2400"/>
            </a:b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(Prel. version for algorithmic subs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956200" y="1692360"/>
            <a:ext cx="2990880" cy="37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D700EC-6BE3-4D20-90ED-C3FF000E350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9640" y="0"/>
            <a:ext cx="860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hanging compiler to R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900000"/>
            <a:ext cx="9144000" cy="506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74CF21-F933-464D-97A6-3F9C8DA27B9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0"/>
            <a:ext cx="860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tting the debug configuration (RML on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09A280-90CF-4217-8167-380B6E7E0751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pecify the name of the execu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 flipH="1" flipV="1">
            <a:off x="5643360" y="2341440"/>
            <a:ext cx="1260360" cy="655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24360" y="2997360"/>
            <a:ext cx="316872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Browse and select the executable you just bui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575650-0EED-410D-AC77-78F7E3929A48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t breakpoints in .mo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 flipH="1" flipV="1">
            <a:off x="2043000" y="2916000"/>
            <a:ext cx="1548000" cy="159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11280" y="4508640"/>
            <a:ext cx="316872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 click on the ruler to set break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0538D1-7B73-43B5-BDF3-7FDE2C5F3243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0"/>
            <a:ext cx="8748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un the debug configuration to start debug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 flipH="1" flipV="1">
            <a:off x="963720" y="973080"/>
            <a:ext cx="1619280" cy="3176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03280" y="4149720"/>
            <a:ext cx="338472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and select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bugging will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A871E1-D424-4A4E-8175-8E3A574DBAED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clipse will ask to switch to debugging persp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0B845B-FF28-4029-84A1-8A0C2C00B35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ebugging persp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 flipV="1">
            <a:off x="1763640" y="1333440"/>
            <a:ext cx="2016360" cy="3471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9640" y="4797360"/>
            <a:ext cx="316872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he buttons to ste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step into works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219640" y="1620360"/>
            <a:ext cx="360360" cy="2824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43280" y="4508640"/>
            <a:ext cx="316872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 variables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there is a tab with breakpoi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EF3F5E-293D-450F-9BB8-9C16A2014B05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witching persp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-36360" y="620640"/>
            <a:ext cx="9180360" cy="57387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 flipV="1">
            <a:off x="4448160" y="1476000"/>
            <a:ext cx="3579840" cy="303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76720" y="4508640"/>
            <a:ext cx="352728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between Debug and Modelica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FB9D06-C930-47D3-B6CC-9E8E1B6E80E9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Setup – Creating th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repeat the procedure for all exerc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02b_exp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5a_assigntw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5b_modassigntw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6_advan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7_OMCAndCor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leave open only the project you are working on!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ose all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12923-ACE1-4351-8A83-F9A237F1C708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Building a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98360" y="620640"/>
            <a:ext cx="8621640" cy="62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411EE5-FCAB-4866-BD8E-E0A860E24849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Eclipse and Exercise Set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All Exerc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0_simples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02b_exp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5a_assigntw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5b_modassigntw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6_advan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7_OMCAndCor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8-11 – as samples of Prog. Lang. mod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652BAD-55E7-4A99-8F07-4F999B58A236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Opening 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96720" y="620640"/>
            <a:ext cx="8352000" cy="62643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580000" y="836640"/>
            <a:ext cx="2924280" cy="58197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4572000" y="2060640"/>
            <a:ext cx="1008000" cy="15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33400" y="5445000"/>
            <a:ext cx="382752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open additional vie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7b1c15"/>
                </a:solidFill>
                <a:latin typeface="Times New Roman"/>
              </a:rPr>
              <a:t>Window-&gt;ShowView-&gt;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7230F-3AE2-4F5A-A5B4-4E653847BA31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5280" y="914400"/>
            <a:ext cx="88394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Each exercise is in a different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All exercises hav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README.tx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- information about the exerc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SOLUTION.tx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– the solution of the exercise (if the exercise has some implementation assign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program.txt</a:t>
            </a:r>
            <a:r>
              <a:rPr b="1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– input program to the exercise, edit if needed (for the exercises which have an inp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nsult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MetaModelica Programming Guide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and the slides if you need additional information during the exercis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Of course, feel free to ask us any type of questions, it is faster and bett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DD981F-6FB3-45B0-AB0A-D4E2859D02FF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-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1_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In this exercise you experiment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Con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functions 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Functions.mo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to display the constants defined 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Types.mo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Main.mo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and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Functions.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F74DDE-FA0D-4A73-93CD-84087D8DA9D9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2a_exp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In this exercise you will add new constructs to the exp1 language and deal with their eval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- add new constructs to the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a power operator   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(^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a factorial operator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(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within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Exp1.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N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parser/lexer are ready, but give parser errors for the new operators until they are added in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Exp1.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DBAD98-C52F-4537-81CB-4731427E40BB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2b_exp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will explore a different way to model the 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exp1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language using different 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Exp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Explore th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Exp2.mo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file and compare it with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Exp1.mo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fi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2121C4-8D78-4BFB-895F-215224C912DB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3_symbolicderiv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add rules to derive ‘-’, ‘*’, sine, cosine and power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add rules to simplify ‘-’, sine, cosine and power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 within </a:t>
            </a:r>
            <a:r>
              <a:rPr b="1" lang="en-US" sz="2800" spc="-1" strike="noStrike">
                <a:solidFill>
                  <a:srgbClr val="213159"/>
                </a:solidFill>
                <a:latin typeface="Courier New"/>
                <a:ea typeface="DejaVu Sans"/>
              </a:rPr>
              <a:t>SymbolicDerivative.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032F31-5C8C-4C6B-A566-8FB3F54141B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4_assig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 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- add functions to pri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assignments present in the current program before the actual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environment after it was augmented with the ass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 within </a:t>
            </a:r>
            <a:r>
              <a:rPr b="1" lang="en-US" sz="2800" spc="-1" strike="noStrike">
                <a:solidFill>
                  <a:srgbClr val="213159"/>
                </a:solidFill>
                <a:latin typeface="Courier New"/>
                <a:ea typeface="DejaVu Sans"/>
              </a:rPr>
              <a:t>Assignment.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F5D6F-896D-4038-8E5B-5EC145A105AB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5a_assigntwo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 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- add functions to pri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add a new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String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type which can hold only integers as strings to the current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Exp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n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add cases to evaluate expressions/assignments of the form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"2" + 1 + "1" + 1.0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in the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eval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with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AssignTwoType.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37958-0146-43F1-9943-78BFF4E37E1B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5b_modassigntwo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will explore a different way to structure your code within different pack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e code from 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05a_assigntwotype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s now split over 4 pack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Compare the 05a/b pro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5C875-D738-41D1-AD51-5309380E82E6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6_advanced (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In this exercise you experiment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polymorphic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con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higher order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a polymorphic function that orders a list of any ty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function has as input a list and a compare function between the objects of that li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the comparison functions for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Integers</a:t>
            </a:r>
            <a:r>
              <a:rPr b="0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,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Strings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and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Reals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est your function on the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Types.int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27287F-FA41-4CF5-8915-41F1CC54C20F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lected Exercises in this Co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76032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0_simples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(02b_exp2 opt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 (opt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7D5C8E-A9FD-4C30-BC57-DAC35DAE1215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6_advanced (I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a polymorphic map function that applies a function over a list and returns a new list with th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three functions that transform fro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  <a:ea typeface="DejaVu Sans"/>
              </a:rPr>
              <a:t>integer to re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  <a:ea typeface="DejaVu Sans"/>
              </a:rPr>
              <a:t>integer to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  <a:ea typeface="DejaVu Sans"/>
              </a:rPr>
              <a:t>real to st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Use your map function and the two transformation functions to transform the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Types.intLis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to a list of reals and a list of string, then apply the ordering function from Assignment 1 on the newly created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0EE490-9ED8-47D9-B05E-30BFEE5D6FA3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6_advanced (II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a polymorphic map function that applies a print function over a list (of Strings) and prints the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Use the transformer functions from real-&gt;string and integer-&gt;string from Assignment 2 to transform the real list or the integer list to a string list for prin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EC1B31-E689-4E03-8624-0A955FCCABD1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MC Overvie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775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213159"/>
                </a:solidFill>
                <a:latin typeface="Trebuchet MS"/>
              </a:rPr>
              <a:t>We are Switching to OMC Overview now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E941F6-91E7-48A6-90F7-48682B4A50A8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676160" y="-46440"/>
            <a:ext cx="746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Development Toolkit (OMDev)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OMDev is a pre-packaged pre-compiled kit containing all tools needed for OpenModelica development.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lvl="1" marL="535320" indent="-20052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Just unpack and set some environment variables. (Windows)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lvl="1" marL="535320" indent="-20052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apt-get build-dep openmodelica (Ubuntu/Debian Linux)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MetaModelica Compiler (MMC) – for developing OMC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OpenModelica Compiler (OMC) – for browsing support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Eclipse plugin MDT – (Modelica Development Tooling), e.g. for compiler (OMC) development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Pre-compiled Corba (MICO or omniORB) for tool communication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Packaged Gnu compiler (GCC; Mingw version for Windows)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Emacs mode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Online (web) Subversion for version handling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Online (web) Codebeamer for bug reporting and management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Automatic regression testing using a test suite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Unit testing using the bootstrapped OpenModelica Compiler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Interactive MetaModelica debugger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DB5F6-748B-4EE0-B11D-B0CF0D2C2802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0920" y="-79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Environment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26146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546120" y="1509840"/>
          <a:ext cx="7918560" cy="39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1509840"/>
                    <a:ext cx="7918560" cy="39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77C566-66B7-4E61-9812-5B79446DD4B2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Client-Server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233360" y="1201680"/>
          <a:ext cx="6570720" cy="46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1201680"/>
                    <a:ext cx="657072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D09551-CB02-4192-A9F6-2F44273D8C59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eleased in OpenModelica 1.5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penModelica Compiler/Interpreter – OM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teractive session handler – OMSh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penModelica Notebook with DrModelica and DrControl –  OMNoteboo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penModelica Eclipse plugin M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imForge graphic ed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MetaModelica Debug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9549AD-2459-46D3-BE23-1135FC634E49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Compiler/Interpr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3040" y="1125360"/>
            <a:ext cx="8763120" cy="51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penModelica 1.5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Currently implemented in 280 000 lines of MetaModelica (1.4.5 was 180 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cludes code generation, BLT-transformation, index reduction, connection to DASSL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Most of the Modelica 3.1 language including classes, functions, inheritance, modifications, import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Hybrid/Discrete event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8A9D9A-5D21-47D2-8380-64F74E2A4C83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orba Client-Server 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914400"/>
            <a:ext cx="71247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imple text-based (string) communication in Modelica Synt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API supporting model structure query and 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5040" y="2803680"/>
            <a:ext cx="7149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Call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s fulfill the normal Modelica function call syntax.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veModel("MyResistorFile.mo",MyResis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save the model MyResistor into the file “MyResistorFile.mo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creating new models it is most practical to send a model, e.g.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del Foo   end Foo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, e.g.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nector Port   end Por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927CA6-049F-4FC2-BA61-6ED465A4E5A5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ome of the Corba API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203040" y="765000"/>
          <a:ext cx="8509320" cy="21732840"/>
        </p:xfrm>
        <a:graphic>
          <a:graphicData uri="http://schemas.openxmlformats.org/drawingml/2006/table">
            <a:tbl>
              <a:tblPr/>
              <a:tblGrid>
                <a:gridCol w="3237120"/>
                <a:gridCol w="5272200"/>
              </a:tblGrid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saveModel(A1&lt;string&gt;,A2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343080" indent="-335160" algn="just">
                        <a:lnSpc>
                          <a:spcPct val="68000"/>
                        </a:lnSpc>
                        <a:tabLst>
                          <a:tab algn="l" pos="0"/>
                          <a:tab algn="l" pos="343080"/>
                          <a:tab algn="r" pos="3392640"/>
                          <a:tab algn="l" pos="3649680"/>
                          <a:tab algn="l" pos="4564080"/>
                          <a:tab algn="l" pos="5478480"/>
                          <a:tab algn="l" pos="6392880"/>
                          <a:tab algn="l" pos="7307280"/>
                          <a:tab algn="l" pos="8221680"/>
                          <a:tab algn="l" pos="9136080"/>
                          <a:tab algn="l" pos="10050480"/>
                          <a:tab algn="l" pos="10326600"/>
                          <a:tab algn="l" pos="1077588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Saves the model (A2) in a file given by a string (A1). This call is also in typed API.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loadFile(A1&lt;string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Loads all models in the file. Also in typed API. Returns list of names of top level classes in the loaded fil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loadModel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Loads the model (A1) by looking up the correct file to load in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$MODELICAPATH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Loads all models in that file into the symbol table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Class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the class from the symbol tabl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Component(A1&lt;ident&gt;,A2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cref&gt;,annotate=&lt;expr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a component with name (A1), type (A2), and class (A3) as arguments. Optional annotations are given with the named argumen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Component(A1&lt;ident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a component (A1) within a class (A2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updateComponent(A1&lt;ident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cref&gt;,annotate=&lt;expr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Updates an already existing component with name (A1), type (A2), and class (A3) as arguments. Optional annotations are given with the named argumen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ClassAnnotation(A1&lt;cref&gt;, annotate=&lt;expr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annotation given by A2( in the form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= classmod(...))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to the model definition referenced by A1. Should be used to add Icon Diagram and Documentation annotati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98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mponents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343080" indent="-154080" algn="just">
                        <a:lnSpc>
                          <a:spcPct val="68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a list of the component declarations within class A1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154080" algn="just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{{Atype,varidA,”commentA”},{Btype,varidB,”commentB”}, {...}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mponentAnnotations(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a lis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{...}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of all annotations of all components in A1, in the same order as the components, one annotation per componen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mponentCount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(as a string) of components in a class, e.g return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2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there are 2 componen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mponent(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belonging class, component name and type name of the nth component of a class,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A.B.C,R2,Resistor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where the first component is numbered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mponentAnnotation(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flattened annotation record of the nth component  (A2) (the first is has no 1) within class/component A1. Consists of a comma separated string of 15 values, see Annotations in Section 2.4.4 below, e.g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false,10,30,...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mponentModification(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?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modification of the nth component  (A2) where the first  has no 1) of class/component A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InheritanceCount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(as a string) of inherited classes of a clas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InheritedClass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type name of the nth inherited class of a class. The first class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nnectionCount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(as a string) of connections in the mode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ion, as a comma separated pair of connectors,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R1.n,R2.p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The first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ionAnnotation(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ion annotation as comma separated list of values of a flattened record, see Annotations in Section 2.4.4  below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Connection(A1&lt;cref&gt;,A2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cref&gt;, annotate=&lt;expr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connection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connect(A1,A2)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to model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with annotation given by the named argumen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updateConnec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,A3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=&lt;expr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Updates an already existing connec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Connec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,A3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the connection connect(A1,A2) in class given by A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Equation(A1&lt;cref&gt;,A2&lt;expr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expr&gt;)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the equation A2=A3 to the model named by A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EquationCount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of equations (as a string) in the model named A1. (This includes connection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Equation(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(A2) equation of the model named by A1.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der(x)=-1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or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connect(A.b,C.a)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The first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NthEqua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int&gt;)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the nth (A2) equation in the model named by A1. The first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nnectorCount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of connectors (as a string) of a class A1. NOTE: partial code instantiation of inheritance is performed before investigating the connector count, in order also to get the inherited connector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or(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 of the nth connector, e.g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n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The first connector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87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orIconAnnotation(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or icon layer annotation as comma separated list of values of a flat record, see Annotation below. NOTE: Since connectors can be inherited, a partial instantiation of the inheritance structure is performed. The first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87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orDiagramAnnotation(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or diagram layer annotation as comma separated list of values of a flat record, see Annotation below. NOTE: Since connectors can be inherited, a partial instantiation of the inheritance structure is performed. The first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IconAnnotation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Icon Annotation of the class named by A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87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DiagramAnnotation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Diagram annotation of the class named by A1. NOTE: Since the Diagram annotations can be found in base classes a partial code instantiation is performed that flattens the inheritance hierarchy in order to find all annotati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Packages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Packages in a class/package named by A1 as a list, e.g.: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{Electrical,Blocks,Mechanics, Constants,Math,SIunits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Packages(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package definitions in the global scop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lassNames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class defintions in a class/packag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lassNames(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class definitions in the global scop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lassRestriction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kind of restricted class of &lt;cref&gt;,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model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connector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unction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packag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et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Type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typ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rimitive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of primitive typ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Connector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connector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Model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model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Record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record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Block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block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Function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function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ackage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packag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Class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a class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arameter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a parameter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Constant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a constant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rotected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protected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existClass(A1&lt;cref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exists in symbolTabl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existModel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exists in symbol table and has restriction model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existPackage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exists in symbol table and has restriction packag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F9E59-E10C-47C7-9D65-9DB59B1EA454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Setup – Switching Work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04640" y="608040"/>
            <a:ext cx="8332920" cy="6249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348000" y="3429000"/>
            <a:ext cx="4371840" cy="2324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484360" y="3429000"/>
            <a:ext cx="1511280" cy="100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65200" y="1800360"/>
            <a:ext cx="465516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clean work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to import many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54E8B5-7F14-4F35-B40A-B3E7BFED37B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492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All OpenModelica GUI tools (OMShell, OMNotebook, ...) are developed on the Qt4 GUI library, portable between Windows, Linux,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Both compilers (OMC, MMC) are portable between the three platforms and compiled nigh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Windows – main release plat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Linux – main development plat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Mac – 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A7227-0E05-4836-9525-957C5C293D66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Switching to Java Persp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317080" cy="62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095C8B-C70D-44F3-AA26-1473423A8AAE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7_OMCAndCor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will send commands to the OMC Compiler (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omc.exe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) via COR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OMCProxy.java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has functionality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tarting the omc process if is not already sta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starting is a bit different for Windows/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ending commands to O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logging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f you need clients in C++ or Python che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ea typeface="DejaVu Sans"/>
                <a:hlinkClick r:id="rId1"/>
              </a:rPr>
              <a:t>http://www.ida.liu.se/labs/pelab/modelica/OpenModelica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213159"/>
                </a:solidFill>
                <a:latin typeface="Trebuchet MS"/>
                <a:ea typeface="DejaVu Sans"/>
              </a:rPr>
              <a:t>developer 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BCB897-DAFE-4A75-8D7C-3C6AD930C99E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Setup – Creating th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68360" y="627120"/>
            <a:ext cx="8307360" cy="62308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0" y="2095560"/>
            <a:ext cx="4762440" cy="476244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4381560" y="209556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266920" y="6308640"/>
            <a:ext cx="936720" cy="549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274920" y="3492000"/>
            <a:ext cx="2376720" cy="2824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258920" y="5013360"/>
            <a:ext cx="936720" cy="13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1108080" y="1125360"/>
            <a:ext cx="2967120" cy="352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762514-241D-411B-A320-B8477BF8105B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5840" indent="-2779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779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77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779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Administrative 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79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  <a:ea typeface="DejaVu Sans"/>
              </a:rPr>
              <a:t>What would you like to implement tomorro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79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  <a:ea typeface="DejaVu Sans"/>
              </a:rPr>
              <a:t>in the OpenModelica Compil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-47880"/>
            <a:ext cx="746748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mport Project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7920" indent="-27792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ile → Impor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754200" indent="-28260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General → Existing projects into workspace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2340000"/>
            <a:ext cx="9144000" cy="39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1E285E-3297-4EDE-A984-2C9D6649A7A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lect and Open all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C19CDD-A98A-4B74-9804-8A985833B5F7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on't build projects automat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3840" y="720720"/>
            <a:ext cx="8877240" cy="52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FC30E3-211E-4C1C-923C-3D94227D818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Refresh all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-36360" y="620640"/>
            <a:ext cx="9180360" cy="5738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02:12:12Z</dcterms:created>
  <dc:creator>Adrian Pop [adrpo@ida.liu.se, http://www.ida.liu.se/~adrpo]</dc:creator>
  <dc:description/>
  <dc:language>en-US</dc:language>
  <cp:lastModifiedBy>Martin Sjölund</cp:lastModifiedBy>
  <cp:lastPrinted>2001-06-05T14:43:50Z</cp:lastPrinted>
  <dcterms:modified xsi:type="dcterms:W3CDTF">2009-10-23T07:24:48Z</dcterms:modified>
  <cp:revision>44</cp:revision>
  <dc:subject>MetaModelica</dc:subject>
  <dc:title>MetaModelica Tutorial and Exercises</dc:title>
</cp:coreProperties>
</file>